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6AC-D7EB-4F5C-8A7B-20A8F034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E10-4CEB-41F0-B39B-BB99155A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5D5-E504-41D2-A000-01F0557E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C62-3C4A-41DE-8E7C-FBC42DDE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94A0-24D3-4A9F-BBA1-76F974B1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625E-F8D7-4ECE-8FDC-C3CDA885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0B65-0DDC-423A-9628-9F0B0578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F3AD-BF65-4DA4-AE6A-B6A682AE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CA0B-75E4-44C4-8211-B7FCF1E0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4DE6-9A4A-44EA-BDDC-B9DC71D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534F-7B17-4928-9489-54E1FC4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A1B-7206-43AC-B8F6-24469B63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670A-DFBB-48D0-89B0-5E81B4B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15F4-494A-49AA-BDAB-3F6088B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532A-DD19-41D8-9FBB-258FE65E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B66E-F852-4CDE-B25B-9AADE0D4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AF4D-B166-4F44-B2CA-AA7B9F26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09F-91DB-4595-B8CF-40C9CF68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C35-A85C-449D-951F-915F5FE3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CF3-4D8C-45E1-AD47-BD390CAB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D53-9816-4489-901E-078D9D3B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584-6FE8-4AD9-90F0-66ACB3B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C71-F0A4-49D7-86F1-22347E1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1CC-C77F-4A6B-BA3A-A488FB5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2E15-D261-4E0F-B415-0FAB10A86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F5AC-4901-484A-B86B-C1E2C0CA1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5ffff"/>
                </a:solidFill>
                <a:latin typeface="Candara"/>
              </a:rPr>
              <a:t>Mi vacaciones en PERU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52760" y="5563800"/>
            <a:ext cx="7956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60199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By: Sarah Christen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la madre! Hola Padre! Como estas? Es MUY buen tiempo aqu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Puno, Peru! Haste mucho color! La hotel es muy grande y los trabajadores es muy bueno. La hotel es Titilaka Hotel. Yo fu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 con dos amigos, Amanda y Kristen. Hasta manaña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Besos,  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3048120" cy="2248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3505320" cy="19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la madre y padre! Esta muy muy muy buen tiempo, lo mismo es ayer! Ayer nosotros fuimos a la playa. Nececitamos una trabajo de bano, gofas de sol, un crème protectoro, y un toalla de playa. La playa es muy grande y hermoso y ocupado! La mar es luz azul. Hoy vamosla Museo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De Arte de Lima. Es muy interesant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es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343400"/>
            <a:ext cx="3349800" cy="223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62120" y="4800600"/>
            <a:ext cx="2286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la! Esta tiempo es muy mal hoy! Es muy nieva! No playa o piscina. Es a interior hoy. Hoy yo fu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è va a esquí acuàtico pero no bueno tiempo. Hoy yo ir de compras. Miro a la tienda de ropa. Es muy diversíon! Yo compro un chaquetta azul y bufanda muchos color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Candar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es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8680" y="4038480"/>
            <a:ext cx="25527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y es muy buen tiempo aqui Peru! My vacationes es muy bueno! El tiempo es muy buen ayer. V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è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la pistina! Es muy buen! Yo perder casa! Yo  voy a la Andes Mountains donde subimos y excurs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on</a:t>
            </a: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aste pronto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es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3352680" cy="225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369576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ndara"/>
              </a:rPr>
              <a:t>Querido Madre y Pad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Hola Madre! Hola Padre! Hoy es mi pasado d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a en Puno, Peru! El tiempo es as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 as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  <a:ea typeface="Tahoma"/>
              </a:rPr>
              <a:t>í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. Esta nublado. Yo llego a casa a noche. Mi vacationes es muy buen y yo aprendo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Besos y abrazo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Sa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810240" cy="253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6320" y="43434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4:03:56Z</dcterms:created>
  <dc:creator>christensensar</dc:creator>
  <dc:description/>
  <dc:language>en-US</dc:language>
  <cp:lastModifiedBy>christensensar</cp:lastModifiedBy>
  <dcterms:modified xsi:type="dcterms:W3CDTF">2011-11-30T14:13:36Z</dcterms:modified>
  <cp:revision>10</cp:revision>
  <dc:subject/>
  <dc:title>Mi vacaciones en PERU</dc:title>
</cp:coreProperties>
</file>